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A965-81BD-442D-98A9-0AADC833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A884-BC0C-4C94-AED9-869D761A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F3A5-90B0-4CB9-AFC0-66EA1945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DE3E-6136-4FD9-A85E-D85E8739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0BBB-F00F-460E-BA11-55A29BBB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747A-7DF2-473E-9F94-AE76EC72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66F1-571C-4CBC-B7EC-E70958DC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03F6-5308-4693-A077-C403EC5C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EFBC-A30B-4CF5-B9F3-70AD8AEF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6CB4-50CF-4A18-98BE-8EC47BAE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D5A8-097A-4B1B-A9E9-0408936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56F8-8535-4D75-A0A6-B79D06E9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48F4-BFEE-46AD-8577-803B402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A13E-F0C9-45C2-BEF1-F0CF5C8B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4840-E3D4-4DBA-B3EF-32588F8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E38A-438A-4015-9447-AF1658B8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C717-BD4B-4B01-975E-35A30F14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5E64-A157-4F01-B650-182C6ABE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F34D6-D207-465A-AE8F-4D8A4C3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E6DA-AC41-4A93-B970-E39D4E96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D71D-A1C0-4A3A-88FD-53A1F271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5A38-4857-45AE-BDC6-A3535509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A5BA-8A12-4680-9D1A-E75594D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B0C2-7AFC-4A21-912D-4EC698CF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A24-A423-4933-AF32-56D372136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E25-4137-4C38-84DA-9FC0E7246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2DB6-4DB6-4752-B45F-E9E4D8405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640" y="1733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ciphertext matrix was created by multiplying the plaintext matrix by the key matrix 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key matrix can be recovered if we know the inverse of the plaintext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3796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 = M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0920" y="548496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 = 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8680" y="5513400"/>
            <a:ext cx="436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Process:  Find the inver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the known plaintext, multip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it times a segment of cipher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and check the resulting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7113-B7ED-45B0-AF41-89CDECCAB3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480" y="1722600"/>
            <a:ext cx="73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 Hill cipher by hand is very time consuming however CAP will automate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35320" y="3297240"/>
            <a:ext cx="564804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288200" y="3056040"/>
            <a:ext cx="1533600" cy="723960"/>
            <a:chOff x="7288200" y="3056040"/>
            <a:chExt cx="1533600" cy="723960"/>
          </a:xfrm>
        </p:grpSpPr>
        <p:sp>
          <p:nvSpPr>
            <p:cNvPr id="124" name=""/>
            <p:cNvSpPr/>
            <p:nvPr/>
          </p:nvSpPr>
          <p:spPr>
            <a:xfrm>
              <a:off x="7288200" y="30560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8320" y="3203640"/>
              <a:ext cx="147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your bes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uess for the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3027240"/>
            <a:ext cx="1539360" cy="723960"/>
            <a:chOff x="4630680" y="3027240"/>
            <a:chExt cx="1539360" cy="723960"/>
          </a:xfrm>
        </p:grpSpPr>
        <p:sp>
          <p:nvSpPr>
            <p:cNvPr id="127" name=""/>
            <p:cNvSpPr/>
            <p:nvPr/>
          </p:nvSpPr>
          <p:spPr>
            <a:xfrm>
              <a:off x="4630680" y="30272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90800" y="3174840"/>
              <a:ext cx="147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a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laintex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40440" y="4151160"/>
            <a:ext cx="1533600" cy="723600"/>
            <a:chOff x="6040440" y="4151160"/>
            <a:chExt cx="1533600" cy="723600"/>
          </a:xfrm>
        </p:grpSpPr>
        <p:sp>
          <p:nvSpPr>
            <p:cNvPr id="130" name=""/>
            <p:cNvSpPr/>
            <p:nvPr/>
          </p:nvSpPr>
          <p:spPr>
            <a:xfrm>
              <a:off x="6040440" y="4151160"/>
              <a:ext cx="1533600" cy="72360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0080" y="4184280"/>
              <a:ext cx="1352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y the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ys until on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D329-67F4-4B07-8667-265076A56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6T23:19:17Z</dcterms:modified>
  <cp:revision>69</cp:revision>
  <dc:subject/>
  <dc:title>CAP Cryptographic Analysis Program</dc:title>
</cp:coreProperties>
</file>